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3806-F876-4B78-AC74-596143B83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FD63-1402-4DFC-B874-C0E838A89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1054-6507-4E42-BDC5-0D881ECCB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FE93-058F-4DDF-9C29-B640C6C14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FADF-501D-4C17-A32B-BA93CACBB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5E5A-9E3D-45A6-A3EB-BEE3978C2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F314-FF6C-4DCF-84AD-4FECB5099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09BB-96E3-43AA-8CDB-866588D41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3B7D-C3DF-4769-AE49-5B69D40BB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049E-F023-4FEE-9AB2-FA64EB6D7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097D-0B69-4BF7-8D3B-D78F8A399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8E05-4E9E-44BF-8FD9-BB7E75451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C102-2B56-4675-B7B6-12A6DE036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94D-3A96-410E-972A-0147E325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9B2-D385-487B-B9D6-35A56C11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F69-469D-4AC4-980D-437B3B97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A60-D4F9-4C91-9878-17EEFBA9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033-AB23-440E-A461-C0FBD8BF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220-DC8F-4180-8261-F916EFD5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B59-26B5-412F-82D6-779CF335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E8B-51B6-4B30-97A8-1196966D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16A-E78D-41F5-BC07-73BED957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284-CF7C-4327-92DE-62058E0B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D7A-CCFF-4122-B032-EBF217F3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C52-410E-4B0E-B230-F5CF0139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CBE6-61E8-48B0-B338-95BC9C822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pi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486400" y="228600"/>
            <a:ext cx="342900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pretty strange how it worked out this way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ven if you are not religious, you should read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Musst du nicht, sol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Du auch nicht, es sei denn du will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124080" y="55627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ICK AT YOUR LEI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APICTT1946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19160" y="152280"/>
            <a:ext cx="89485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When things get tough, always remember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faith doesn't get you around trou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it gets you through 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:-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enn</a:t>
            </a:r>
            <a:r>
              <a:rPr b="1" lang="en-GB" sz="2400" spc="-1" strike="noStrike">
                <a:solidFill>
                  <a:srgbClr val="22228b"/>
                </a:solidFill>
                <a:latin typeface="Arial"/>
                <a:ea typeface="Arial"/>
              </a:rPr>
              <a:t> die Dinge in deinem Leben schwierig werden, denke</a:t>
            </a:r>
            <a:br>
              <a:rPr sz="2400"/>
            </a:br>
            <a:r>
              <a:rPr b="1" lang="en-GB" sz="2400" spc="-1" strike="noStrike">
                <a:solidFill>
                  <a:srgbClr val="22228b"/>
                </a:solidFill>
                <a:latin typeface="Arial"/>
                <a:ea typeface="Arial"/>
              </a:rPr>
              <a:t>daran, dass dein Glaube das nicht verhindert, dich aber</a:t>
            </a:r>
            <a:br>
              <a:rPr sz="2400"/>
            </a:br>
            <a:r>
              <a:rPr b="1" lang="en-GB" sz="2400" spc="-1" strike="noStrike">
                <a:solidFill>
                  <a:srgbClr val="22228b"/>
                </a:solidFill>
                <a:latin typeface="Arial"/>
                <a:ea typeface="Arial"/>
              </a:rPr>
              <a:t>durch die Schwierigkeiten füh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Hier kommt es darauf an woran du glaubst, denn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demensprechend wird dir geschehen!!!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"When you relinquish the desire to control your fut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you obtain happiness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en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du darauf verzichtest, deine Zukunft zu kontrollieren, erlangst du Glück :-? Vorsicht v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EN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Sätzen 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APICTT194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14400" y="990720"/>
            <a:ext cx="78487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y God bless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ögen die Liebe, Frieden und Freiheit, sowie das Glück mit dir sein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 sei denn du willst vom Vate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geblesst” werden – g*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APICTT1946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feld 4"/>
          <p:cNvSpPr/>
          <p:nvPr/>
        </p:nvSpPr>
        <p:spPr>
          <a:xfrm>
            <a:off x="1371600" y="3200400"/>
            <a:ext cx="662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Sehr schönes Bild der Schöpfung, der Nat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Hier kannst du wahrhaftig göttliches find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uch die gesuchte Perfektion – sie wird überall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n der Natur sichtb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ott ist im Kleinsten wie im Größten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ott ist innen wie au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ott ist vor allem IN D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p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76560" y="228600"/>
            <a:ext cx="66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Q: What is the shortest chapter in the B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326640" y="18288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: Psalm 1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p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99520" y="3581280"/>
            <a:ext cx="65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Q: What is the longest chapter in the B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869440" y="563868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A: Psalm 1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Ap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1061280" y="449568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Q: Which chapter is in the centre of the B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939120" y="57276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: Psalm 1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Ap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52280" y="304920"/>
            <a:ext cx="35260200" cy="67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Facts: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There are 594 chapters before Psalms 118.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There are 594 chapters after Psalms 1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Add these numbers up and you get 118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Ist das nicht wunderbar gemacht – so dass du stau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und glauben mögest, dass sei so etwas wie ein Wund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eine erstaunliche Perfektion des Herren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dem du folgen mögest – auch wenn du gar nicht weiß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wer das überhaupt ist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Diese Präsentation könnte von den 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Zeugen Jehovas/Satans kommen! 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Aber nun kommt es erst so richtig dicke </a:t>
            </a: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01320" y="5791320"/>
            <a:ext cx="60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cc"/>
                </a:solidFill>
                <a:latin typeface="Arial"/>
                <a:ea typeface="Arial"/>
              </a:rPr>
              <a:t>Q: What is the centre verse in the B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479280" y="579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: Psalm 118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p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28600" y="228600"/>
            <a:ext cx="883908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Arial"/>
              </a:rPr>
              <a:t>Does this verse say something signific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Arial"/>
              </a:rPr>
              <a:t>about God's perfect will for our l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800000"/>
                </a:solidFill>
                <a:latin typeface="Arial"/>
                <a:ea typeface="Arial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Es geht nicht um DEINEN eigenen oder gar FRE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Willen - nein – es geht um “Gottes perfekten Willen”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FÜR DEIN Leben, für unser Leben – wird hier gesa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u wirst also fremd bestimmt und was du tun und lasse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ollst, steht in der Bibel – die von sehr geschickte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anipulatoren geschrieben wurde und natürlich nicht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von einem LORD oder GOTT selbst – also sollst du,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wie weiter unten steht – Gottes perfekten Willen such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tatt deinen eigenen!!!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674000" y="5222880"/>
            <a:ext cx="599652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The next time someone says they would like to f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God's perfect will for their lives and that they want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be in the centre of His will, just send them to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centre of His Wor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p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76320"/>
            <a:ext cx="8991360" cy="68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salms 118:8 (NKJV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"It is better to trust in the LORD than to put confidence in man.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an möge also dem LORD (Herren) vertrauen, nicht aber den Mitmenschen, den Freunden, der Familie – NEIN </a:t>
            </a:r>
            <a:r>
              <a:rPr b="1" lang="en-GB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br>
              <a:rPr sz="1900"/>
            </a:br>
            <a:r>
              <a:rPr b="1" lang="en-GB" sz="1900" spc="-1" strike="noStrike">
                <a:solidFill>
                  <a:srgbClr val="60c99c"/>
                </a:solidFill>
                <a:latin typeface="Arial Rounded MT Bold"/>
                <a:ea typeface="Arial"/>
              </a:rPr>
              <a:t> Welch eine wahnsinnige, zerstörerische, destruktive Manipulation </a:t>
            </a:r>
            <a:r>
              <a:rPr b="1" lang="en-GB" sz="1900" spc="-1" strike="noStrike">
                <a:solidFill>
                  <a:srgbClr val="60c99c"/>
                </a:solidFill>
                <a:latin typeface="Wingdings"/>
                <a:ea typeface="Wingdings"/>
              </a:rPr>
              <a:t></a:t>
            </a:r>
            <a:r>
              <a:rPr b="1" lang="en-GB" sz="1900" spc="-1" strike="noStrike">
                <a:solidFill>
                  <a:srgbClr val="60c99c"/>
                </a:solidFill>
                <a:latin typeface="Arial Rounded MT Bold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it anderen Worten: Man möge also all seine Zuversicht dem </a:t>
            </a:r>
            <a:br>
              <a:rPr sz="1900"/>
            </a:b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unsichtbaren LORD geben, dem Allernächsten aber gar nichts zutraue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Ich habe jedenfalls kein Gebet FÜR dich gebetet, bevor ich dies aussandte,</a:t>
            </a:r>
            <a:br>
              <a:rPr sz="1900"/>
            </a:b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a ich dich ja auch nicht gefragt hatte, ob du das überhaupt willst!!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Und das Göttliche in mir bekommt nicht nur 60 Sekunden, sonder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Jeden Augenblick meines Leben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295280" y="1066680"/>
            <a:ext cx="6419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w isn't that odd how this worked out… or was God in the centre of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Before sending this, I said a prayer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Have you got a minute — 60 seconds for Go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All you do is simply say a small prayer for the person who sent you this to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Ap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52280" y="3730680"/>
            <a:ext cx="88394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"Father God, bless my friend in 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it is that you kn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he or she may be needing this day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May their life be full of your peac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prosperity, and power as they seek to have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closer relationship with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Amen.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feld 5"/>
          <p:cNvSpPr/>
          <p:nvPr/>
        </p:nvSpPr>
        <p:spPr>
          <a:xfrm>
            <a:off x="380880" y="533520"/>
            <a:ext cx="83822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Was ist eigentlich mit Mutter Gott, kommt die auch mal vor? Wieso ist Gott immer nur ein Vater????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Verstehst du das – ich jedenfalls nic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Liebe Leute – hier steht auch klar, dass es nicht um UNSEREN Frieden geht, sondern um Gottes-Frieden – aha 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Wozu braucht der das – hm – er kann sich doch alles in nur einem einzigen Augenblick selber schaffen – od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Oder ist der Vater Gott gar so armselig wie die Menschheit, die nicht weiß, wie sie in Frieden leben kann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APICTT1946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380880" y="304920"/>
            <a:ext cx="8458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hen send it on to 10 other peop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Within hours, 10 people have pray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for you, and you caused many peo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pray to God for other peop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hen sit back an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watch the power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at work in your li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for doing the thing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you know He lo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ier wirst du nun aufgefordert, diese Manipulation an 10 Leute in den nächsten 10 Stunden zu senden, auf diese Weise wirst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Zum Mittäter im Namen des Herren – sei dir dessen bewusst –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Lass es und nimm diese Worte als Anstoss zur Bewusstwerdu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wie durch Religionen manipuliert und indoktriniert wird !!!!!!!!!!!!!!!!!!!!!!!!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08:45:26Z</dcterms:created>
  <dc:creator>Hector Velsket</dc:creator>
  <dc:description/>
  <dc:language>en-US</dc:language>
  <cp:lastModifiedBy>MeinPC</cp:lastModifiedBy>
  <dcterms:modified xsi:type="dcterms:W3CDTF">2017-04-21T04:11:04Z</dcterms:modified>
  <cp:revision>38</cp:revision>
  <dc:subject/>
  <dc:title>Wallpapers</dc:title>
</cp:coreProperties>
</file>