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B4CA-F0F3-4090-ABE2-ECBFE04376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92115-7E27-49C9-9873-CDF85C6C8F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6FB1B-B39B-434C-997E-5C6B46749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0CBAF-13FC-439F-9989-DB4522421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114E5-E14A-44EE-960F-955785C874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ED58E-A94A-4865-B7D3-0F993B2EAB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2EE2E-259E-42E1-8403-8C2E3AB39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EAB0E-D552-449B-B7AC-1B7433C59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9694F-1563-4614-BE0A-9C616D98E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479A6-2BED-43F6-A929-4EAFE63392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71FB6-6C85-44B7-9AA4-282855BC3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0A0E6-1E70-49A6-89E3-681944CCC6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785A9-C36D-4CB1-910A-85811F8AE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F6E3-D898-48F1-99E5-178BD6B06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48E0-2D7E-400B-81C9-A9A529D61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F3B7-E4C5-46A2-BB6C-EA543A40D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0320-DFF0-42F4-9686-B5F74AEAC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CF4A-1DE9-4C0F-9DD6-DD250B0CA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BB0D-0DDB-4611-8115-93BB633CF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742F-E840-437E-8644-C9740393B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8176-0A93-4B85-A55F-26727C4E2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69FC-8482-4E5B-A946-5044AA5BE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F412-07B1-4E12-A908-88DFAC85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E745-C9C6-4127-AFB6-2DDBFD18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D04A-0EA1-405C-82ED-AB63FE8C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D8588-E894-473B-B04D-E8F2B65A06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Apic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"/>
          <p:cNvSpPr/>
          <p:nvPr/>
        </p:nvSpPr>
        <p:spPr>
          <a:xfrm>
            <a:off x="5486400" y="228600"/>
            <a:ext cx="3429000" cy="46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is is pretty strange how it worked out this way.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ven if you are not religious, you should read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Musst du nicht, soll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Du auch nicht, es sei denn du wills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3124080" y="556272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LICK AT YOUR LEI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APICTT1946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119160" y="152280"/>
            <a:ext cx="8948520" cy="61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Arial"/>
              </a:rPr>
              <a:t>When things get tough, always remember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Arial"/>
              </a:rPr>
              <a:t>faith doesn't get you around troubl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Arial"/>
              </a:rPr>
              <a:t>it gets you through it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Arial"/>
              </a:rPr>
              <a:t>:-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Wenn</a:t>
            </a:r>
            <a:r>
              <a:rPr b="1" lang="en-GB" sz="2400" spc="-1" strike="noStrike">
                <a:solidFill>
                  <a:srgbClr val="22228b"/>
                </a:solidFill>
                <a:latin typeface="Arial"/>
                <a:ea typeface="Arial"/>
              </a:rPr>
              <a:t> die Dinge in deinem Leben schwierig werden, denke</a:t>
            </a:r>
            <a:br>
              <a:rPr sz="2400"/>
            </a:br>
            <a:r>
              <a:rPr b="1" lang="en-GB" sz="2400" spc="-1" strike="noStrike">
                <a:solidFill>
                  <a:srgbClr val="22228b"/>
                </a:solidFill>
                <a:latin typeface="Arial"/>
                <a:ea typeface="Arial"/>
              </a:rPr>
              <a:t>daran, dass dein Glaube das nicht verhindert, dich aber</a:t>
            </a:r>
            <a:br>
              <a:rPr sz="2400"/>
            </a:br>
            <a:r>
              <a:rPr b="1" lang="en-GB" sz="2400" spc="-1" strike="noStrike">
                <a:solidFill>
                  <a:srgbClr val="22228b"/>
                </a:solidFill>
                <a:latin typeface="Arial"/>
                <a:ea typeface="Arial"/>
              </a:rPr>
              <a:t>durch die Schwierigkeiten führ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Hier kommt es darauf an woran du glaubst, denn </a:t>
            </a:r>
            <a:br>
              <a:rPr sz="2400"/>
            </a:b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demensprechend wird dir geschehen!!!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Arial"/>
              </a:rPr>
              <a:t>"When you relinquish the desire to control your futur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Arial"/>
              </a:rPr>
              <a:t>you obtain happiness.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Wen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du darauf verzichtest, deine Zukunft zu kontrollieren, erlangst du Glück :-? Vorsicht vor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WEN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-Sätzen ;-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APICTT19464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3"/>
          <p:cNvSpPr/>
          <p:nvPr/>
        </p:nvSpPr>
        <p:spPr>
          <a:xfrm>
            <a:off x="914400" y="990720"/>
            <a:ext cx="7848720" cy="49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y God bless you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ögen die Liebe, Frieden und Freiheit, sowie das Glück mit dir sein </a:t>
            </a: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s sei denn du willst vom Vater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“geblesst” werden – g*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2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7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2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APICTT19464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feld 4"/>
          <p:cNvSpPr/>
          <p:nvPr/>
        </p:nvSpPr>
        <p:spPr>
          <a:xfrm>
            <a:off x="1371600" y="3200400"/>
            <a:ext cx="6629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Sehr schönes Bild der Schöpfung, der Natu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Hier kannst du wahrhaftig göttliches finde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auch die gesuchte Perfektion – sie wird überall</a:t>
            </a:r>
            <a:br>
              <a:rPr sz="2400"/>
            </a:b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in der Natur sichtba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Gott ist im Kleinsten wie im Größten</a:t>
            </a:r>
            <a:br>
              <a:rPr sz="2400"/>
            </a:b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Gott ist innen wie auß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Gott ist vor allem IN DI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Ap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"/>
          <p:cNvSpPr/>
          <p:nvPr/>
        </p:nvSpPr>
        <p:spPr>
          <a:xfrm>
            <a:off x="376560" y="228600"/>
            <a:ext cx="662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Arial"/>
              </a:rPr>
              <a:t>Q: What is the shortest chapter in the Bib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6326640" y="1828800"/>
            <a:ext cx="20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Arial"/>
              </a:rPr>
              <a:t>A: Psalm 1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Ap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299520" y="3581280"/>
            <a:ext cx="650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Q: What is the longest chapter in the Bib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5869440" y="5638680"/>
            <a:ext cx="20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A: Psalm 1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Ap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4"/>
          <p:cNvSpPr/>
          <p:nvPr/>
        </p:nvSpPr>
        <p:spPr>
          <a:xfrm>
            <a:off x="1061280" y="4495680"/>
            <a:ext cx="68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Arial"/>
              </a:rPr>
              <a:t>Q: Which chapter is in the centre of the Bib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3939120" y="5727600"/>
            <a:ext cx="20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Arial"/>
              </a:rPr>
              <a:t>A: Psalm 1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75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75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Ap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3"/>
          <p:cNvSpPr/>
          <p:nvPr/>
        </p:nvSpPr>
        <p:spPr>
          <a:xfrm>
            <a:off x="152280" y="304920"/>
            <a:ext cx="35260200" cy="67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  <a:ea typeface="Arial"/>
              </a:rPr>
              <a:t>Facts: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  <a:ea typeface="Arial"/>
              </a:rPr>
              <a:t>There are 594 chapters before Psalms 118.</a:t>
            </a: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  <a:ea typeface="Arial"/>
              </a:rPr>
              <a:t>There are 594 chapters after Psalms 11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  <a:ea typeface="Arial"/>
              </a:rPr>
              <a:t>Add these numbers up and you get 118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 Rounded MT Bold"/>
                <a:ea typeface="Aharoni"/>
              </a:rPr>
              <a:t>Ist das nicht wunderbar gemacht – so dass du staun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 Rounded MT Bold"/>
                <a:ea typeface="Aharoni"/>
              </a:rPr>
              <a:t>und glauben mögest, dass sei so etwas wie ein Wund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 Rounded MT Bold"/>
                <a:ea typeface="Aharoni"/>
              </a:rPr>
              <a:t>eine erstaunliche Perfektion des Herren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 Rounded MT Bold"/>
                <a:ea typeface="Aharoni"/>
              </a:rPr>
              <a:t>dem du folgen mögest – auch wenn du gar nicht weiß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 Rounded MT Bold"/>
                <a:ea typeface="Aharoni"/>
              </a:rPr>
              <a:t>wer das überhaupt ist!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 Rounded MT Bold"/>
                <a:ea typeface="Aharoni"/>
              </a:rPr>
              <a:t>Diese Präsentation könnte von den </a:t>
            </a:r>
            <a:br>
              <a:rPr sz="2400"/>
            </a:br>
            <a:r>
              <a:rPr b="0" lang="de-DE" sz="2400" spc="-1" strike="noStrike">
                <a:solidFill>
                  <a:srgbClr val="ff0000"/>
                </a:solidFill>
                <a:latin typeface="Arial Rounded MT Bold"/>
                <a:ea typeface="Aharoni"/>
              </a:rPr>
              <a:t>Zeugen Jehovas/Satans kommen! </a:t>
            </a:r>
            <a:br>
              <a:rPr sz="2400"/>
            </a:br>
            <a:r>
              <a:rPr b="0" lang="de-DE" sz="2400" spc="-1" strike="noStrike">
                <a:solidFill>
                  <a:srgbClr val="ff0000"/>
                </a:solidFill>
                <a:latin typeface="Arial Rounded MT Bold"/>
                <a:ea typeface="Aharoni"/>
              </a:rPr>
              <a:t>Aber nun kommt es erst so richtig dicke </a:t>
            </a:r>
            <a:r>
              <a:rPr b="0" lang="de-DE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301320" y="5791320"/>
            <a:ext cx="603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cc"/>
                </a:solidFill>
                <a:latin typeface="Arial"/>
                <a:ea typeface="Arial"/>
              </a:rPr>
              <a:t>Q: What is the centre verse in the Bib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6479280" y="5791320"/>
            <a:ext cx="23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Arial"/>
              </a:rPr>
              <a:t>A: Psalm 118: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Ap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3"/>
          <p:cNvSpPr/>
          <p:nvPr/>
        </p:nvSpPr>
        <p:spPr>
          <a:xfrm>
            <a:off x="228600" y="228600"/>
            <a:ext cx="8839080" cy="56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Arial"/>
                <a:ea typeface="Arial"/>
              </a:rPr>
              <a:t>Does this verse say something signific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Arial"/>
                <a:ea typeface="Arial"/>
              </a:rPr>
              <a:t>about God's perfect will for our liv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800000"/>
                </a:solidFill>
                <a:latin typeface="Arial"/>
                <a:ea typeface="Arial"/>
              </a:rPr>
              <a:t>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Es geht nicht um DEINEN eigenen oder gar FRE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Willen - nein – es geht um “Gottes perfekten Willen”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FÜR DEIN Leben, für unser Leben – wird hier gesag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Du wirst also fremd bestimmt und was du tun und lassen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sollst, steht in der Bibel – die von sehr geschickten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Manipulatoren geschrieben wurde und natürlich nicht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von einem LORD oder GOTT selbst – also sollst du,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wie weiter unten steht – Gottes perfekten Willen suche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statt deinen eigenen!!!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1674000" y="5222880"/>
            <a:ext cx="5996520" cy="15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0000"/>
                </a:solidFill>
                <a:latin typeface="Arial"/>
                <a:ea typeface="Arial"/>
              </a:rPr>
              <a:t>The next time someone says they would like to fi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r>
              <a:rPr b="1" lang="en-GB" sz="1800" spc="-1" strike="noStrike">
                <a:solidFill>
                  <a:srgbClr val="800000"/>
                </a:solidFill>
                <a:latin typeface="Arial"/>
                <a:ea typeface="Arial"/>
              </a:rPr>
              <a:t>God's perfect will for their lives and that they want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r>
              <a:rPr b="1" lang="en-GB" sz="1800" spc="-1" strike="noStrike">
                <a:solidFill>
                  <a:srgbClr val="800000"/>
                </a:solidFill>
                <a:latin typeface="Arial"/>
                <a:ea typeface="Arial"/>
              </a:rPr>
              <a:t>be in the centre of His will, just send them to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0000"/>
                </a:solidFill>
                <a:latin typeface="Arial"/>
                <a:ea typeface="Arial"/>
              </a:rPr>
              <a:t>centre of His Wor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Ap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>
            <a:off x="76320" y="76320"/>
            <a:ext cx="8991360" cy="68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salms 118:8 (NKJV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"It is better to trust in the LORD than to put confidence in man.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Man möge also dem LORD (Herren) vertrauen, nicht aber den Mitmenschen, den Freunden, der Familie – NEIN </a:t>
            </a:r>
            <a:r>
              <a:rPr b="1" lang="en-GB" sz="19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br>
              <a:rPr sz="1900"/>
            </a:br>
            <a:r>
              <a:rPr b="1" lang="en-GB" sz="1900" spc="-1" strike="noStrike">
                <a:solidFill>
                  <a:srgbClr val="60c99c"/>
                </a:solidFill>
                <a:latin typeface="Arial Rounded MT Bold"/>
                <a:ea typeface="Arial"/>
              </a:rPr>
              <a:t> Welch eine wahnsinnige, zerstörerische, destruktive Manipulation </a:t>
            </a:r>
            <a:r>
              <a:rPr b="1" lang="en-GB" sz="1900" spc="-1" strike="noStrike">
                <a:solidFill>
                  <a:srgbClr val="60c99c"/>
                </a:solidFill>
                <a:latin typeface="Wingdings"/>
                <a:ea typeface="Wingdings"/>
              </a:rPr>
              <a:t></a:t>
            </a:r>
            <a:r>
              <a:rPr b="1" lang="en-GB" sz="1900" spc="-1" strike="noStrike">
                <a:solidFill>
                  <a:srgbClr val="60c99c"/>
                </a:solidFill>
                <a:latin typeface="Arial Rounded MT Bold"/>
                <a:ea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Mit anderen Worten: Man möge also all seine Zuversicht dem </a:t>
            </a:r>
            <a:br>
              <a:rPr sz="1900"/>
            </a:br>
            <a:r>
              <a:rPr b="1" lang="en-GB" sz="19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unsichtbaren LORD geben, dem Allernächsten aber gar nichts zutrauen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*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Ich habe jedenfalls kein Gebet FÜR dich gebetet, bevor ich dies aussandte,</a:t>
            </a:r>
            <a:br>
              <a:rPr sz="1900"/>
            </a:br>
            <a:r>
              <a:rPr b="1" lang="en-GB" sz="19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da ich dich ja auch nicht gefragt hatte, ob du das überhaupt willst!!!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Und das Göttliche in mir bekommt nicht nur 60 Sekunden, sonder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Jeden Augenblick meines Lebens!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1295280" y="1066680"/>
            <a:ext cx="6419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Now isn't that odd how this worked out… or was God in the centre of i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Before sending this, I said a prayer for yo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Have you got a minute — 60 seconds for Go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All you do is simply say a small prayer for the person who sent you this to yo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Ap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3"/>
          <p:cNvSpPr/>
          <p:nvPr/>
        </p:nvSpPr>
        <p:spPr>
          <a:xfrm>
            <a:off x="152280" y="3730680"/>
            <a:ext cx="8839440" cy="29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99"/>
                </a:solidFill>
                <a:latin typeface="Arial"/>
                <a:ea typeface="Arial"/>
              </a:rPr>
              <a:t>"Father God, bless my friend in whate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99"/>
                </a:solidFill>
                <a:latin typeface="Arial"/>
                <a:ea typeface="Arial"/>
              </a:rPr>
              <a:t>it is that you kno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99"/>
                </a:solidFill>
                <a:latin typeface="Arial"/>
                <a:ea typeface="Arial"/>
              </a:rPr>
              <a:t>he or she may be needing this day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99"/>
                </a:solidFill>
                <a:latin typeface="Arial"/>
                <a:ea typeface="Arial"/>
              </a:rPr>
              <a:t>May their life be full of your peac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99"/>
                </a:solidFill>
                <a:latin typeface="Arial"/>
                <a:ea typeface="Arial"/>
              </a:rPr>
              <a:t>prosperity, and power as they seek to have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99"/>
                </a:solidFill>
                <a:latin typeface="Arial"/>
                <a:ea typeface="Arial"/>
              </a:rPr>
              <a:t>closer relationship with Yo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ffff99"/>
                </a:solidFill>
                <a:latin typeface="Arial"/>
                <a:ea typeface="Arial"/>
              </a:rPr>
              <a:t>Amen."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feld 5"/>
          <p:cNvSpPr/>
          <p:nvPr/>
        </p:nvSpPr>
        <p:spPr>
          <a:xfrm>
            <a:off x="380880" y="533520"/>
            <a:ext cx="8382240" cy="32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 Rounded MT Bold"/>
              </a:rPr>
              <a:t>Was ist eigentlich mit Mutter Gott, kommt die auch mal vor? Wieso ist Gott immer nur ein Vater???? 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Arial Rounded MT Bold"/>
              </a:rPr>
              <a:t>Verstehst du das – ich jedenfalls nic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 Rounded MT Bold"/>
              </a:rPr>
              <a:t>Liebe Leute – hier steht auch klar, dass es nicht um UNSEREN Frieden geht, sondern um Gottes-Frieden – aha </a:t>
            </a:r>
            <a:r>
              <a:rPr b="0" lang="de-DE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r>
              <a:rPr b="0" lang="de-DE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 Rounded MT Bold"/>
              </a:rPr>
              <a:t>Wozu braucht der das – hm – er kann sich doch alles in nur einem einzigen Augenblick selber schaffen – od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 Rounded MT Bold"/>
              </a:rPr>
              <a:t>Oder ist der Vater Gott gar so armselig wie die Menschheit, die nicht weiß, wie sie in Frieden leben kann??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APICTT1946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3"/>
          <p:cNvSpPr/>
          <p:nvPr/>
        </p:nvSpPr>
        <p:spPr>
          <a:xfrm>
            <a:off x="380880" y="304920"/>
            <a:ext cx="845820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Then send it on to 10 other peopl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Within hours, 10 people have pray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for you, and you caused many peop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pray to God for other peopl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Then sit back and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watch the power of G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at work in your lif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for doing the thing th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you know He lov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Hier wirst du nun aufgefordert, diese Manipulation an 10 Leute in den nächsten 10 Stunden zu senden, auf diese Weise wirst 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Zum Mittäter im Namen des Herren – sei dir dessen bewusst – al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Lass es und nimm diese Worte als Anstoss zur Bewusstwerdung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wie durch Religionen manipuliert und indoktriniert wird !!!!!!!!!!!!!!!!!!!!!!!!!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3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8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3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8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3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8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3" dur="500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8" dur="500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3" dur="500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8" dur="500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500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500"/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2T08:45:26Z</dcterms:created>
  <dc:creator>Hector Velsket</dc:creator>
  <dc:description/>
  <dc:language>en-US</dc:language>
  <cp:lastModifiedBy>MeinPC</cp:lastModifiedBy>
  <dcterms:modified xsi:type="dcterms:W3CDTF">2017-04-21T04:11:04Z</dcterms:modified>
  <cp:revision>38</cp:revision>
  <dc:subject/>
  <dc:title>Wallpapers</dc:title>
</cp:coreProperties>
</file>