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5F67-89E8-4461-8D95-174D22FBA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7679-1EBA-4100-8C3D-EE89F6394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F52E-CF95-4454-AE3F-35FA164FE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3D47-E76A-43BF-84B0-C277C5EF3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3B39-EE5C-4134-8580-5D47661DD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D524-A666-4FCC-A560-347410EB7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D8C7-6453-434D-A919-4F3925AC1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DF0B-C357-41EE-994A-9818C7ABD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3F23-8C9E-46D2-BC4E-6ED81E12E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1976-7D4A-4559-933B-E02860E2C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2A05-DE7B-41DC-A65B-EE06FB9AF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D57A-43EB-4898-ADEB-6DAE575FB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FCB6-1D57-4894-A1C4-9C3E47ACB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319B-1091-4681-96DE-BB831CE48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1B3C-4D6C-43EF-B364-272B7410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E6D2-E79B-4125-A84C-C0FCB9A9B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EC2B-16D0-4279-9532-8C0409B7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AF72-A182-4BEA-AAB3-5DADC6A7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5170-7D1F-45D1-9FDC-560E87C8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795A-78A5-4E42-A9A8-24FFAA59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A030-2188-415F-8EB7-F544FD87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5E4C-AE54-495C-A624-98114048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7CFD-6414-4AFA-8E17-30362B1C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75DC-5108-4555-823D-6849080C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C7F4-0D44-49DE-BA88-7CEE72C0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712C-73FD-48AF-8331-623970C4B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Apic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5486400" y="228600"/>
            <a:ext cx="3429000" cy="46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is pretty strange how it worked out this way.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ven if you are not religious, you should read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Musst du nicht, soll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Du auch nicht, es sei denn du will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3124080" y="55627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LICK AT YOUR LEI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APICTT1946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119160" y="152280"/>
            <a:ext cx="894852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When things get tough, always remember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faith doesn't get you around troub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it gets you through i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:-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Wenn</a:t>
            </a:r>
            <a:r>
              <a:rPr b="1" lang="en-GB" sz="2400" spc="-1" strike="noStrike">
                <a:solidFill>
                  <a:srgbClr val="22228b"/>
                </a:solidFill>
                <a:latin typeface="Arial"/>
                <a:ea typeface="Arial"/>
              </a:rPr>
              <a:t> die Dinge in deinem Leben schwierig werden, denke</a:t>
            </a:r>
            <a:br>
              <a:rPr sz="2400"/>
            </a:br>
            <a:r>
              <a:rPr b="1" lang="en-GB" sz="2400" spc="-1" strike="noStrike">
                <a:solidFill>
                  <a:srgbClr val="22228b"/>
                </a:solidFill>
                <a:latin typeface="Arial"/>
                <a:ea typeface="Arial"/>
              </a:rPr>
              <a:t>daran, dass dein Glaube das nicht verhindert, dich aber</a:t>
            </a:r>
            <a:br>
              <a:rPr sz="2400"/>
            </a:br>
            <a:r>
              <a:rPr b="1" lang="en-GB" sz="2400" spc="-1" strike="noStrike">
                <a:solidFill>
                  <a:srgbClr val="22228b"/>
                </a:solidFill>
                <a:latin typeface="Arial"/>
                <a:ea typeface="Arial"/>
              </a:rPr>
              <a:t>durch die Schwierigkeiten führ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Hier kommt es darauf an woran du glaubst, denn 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demensprechend wird dir geschehen!!!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"When you relinquish the desire to control your futu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you obtain happiness.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Wen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du darauf verzichtest, deine Zukunft zu kontrollieren, erlangst du Glück :-? Vorsicht vor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WEN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-Sätzen ;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APICTT1946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914400" y="990720"/>
            <a:ext cx="784872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y God bless 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ögen die Liebe, Frieden und Freiheit, sowie das Glück mit dir sein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s sei denn du willst vom Vater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“geblesst” werden – g*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APICTT1946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feld 4"/>
          <p:cNvSpPr/>
          <p:nvPr/>
        </p:nvSpPr>
        <p:spPr>
          <a:xfrm>
            <a:off x="1371600" y="3200400"/>
            <a:ext cx="6629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Sehr schönes Bild der Schöpfung, der Natu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Hier kannst du wahrhaftig göttliches find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auch die gesuchte Perfektion – sie wird überall</a:t>
            </a:r>
            <a:br>
              <a:rPr sz="2400"/>
            </a:b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in der Natur sichtb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Gott ist im Kleinsten wie im Größten</a:t>
            </a:r>
            <a:br>
              <a:rPr sz="2400"/>
            </a:b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Gott ist innen wie auß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Gott ist vor allem IN DI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Ap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376560" y="228600"/>
            <a:ext cx="66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Q: What is the shortest chapter in the Bi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6326640" y="182880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A: Psalm 1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Ap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299520" y="3581280"/>
            <a:ext cx="650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Q: What is the longest chapter in the Bi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5869440" y="563868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A: Psalm 1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Ap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1061280" y="4495680"/>
            <a:ext cx="68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Q: Which chapter is in the centre of the Bi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939120" y="572760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A: Psalm 1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75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75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Ap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152280" y="304920"/>
            <a:ext cx="35260200" cy="67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  <a:ea typeface="Arial"/>
              </a:rPr>
              <a:t>Facts: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Arial"/>
              </a:rPr>
              <a:t>There are 594 chapters before Psalms 118.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Arial"/>
              </a:rPr>
              <a:t>There are 594 chapters after Psalms 11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  <a:ea typeface="Arial"/>
              </a:rPr>
              <a:t>Add these numbers up and you get 118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  <a:ea typeface="Aharoni"/>
              </a:rPr>
              <a:t>Ist das nicht wunderbar gemacht – so dass du staun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  <a:ea typeface="Aharoni"/>
              </a:rPr>
              <a:t>und glauben mögest, dass sei so etwas wie ein Wund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  <a:ea typeface="Aharoni"/>
              </a:rPr>
              <a:t>eine erstaunliche Perfektion des Herren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  <a:ea typeface="Aharoni"/>
              </a:rPr>
              <a:t>dem du folgen mögest – auch wenn du gar nicht weiß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  <a:ea typeface="Aharoni"/>
              </a:rPr>
              <a:t>wer das überhaupt ist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  <a:ea typeface="Aharoni"/>
              </a:rPr>
              <a:t>Diese Präsentation könnte von den 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Arial Rounded MT Bold"/>
                <a:ea typeface="Aharoni"/>
              </a:rPr>
              <a:t>Zeugen Jehovas/Satans kommen! 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Arial Rounded MT Bold"/>
                <a:ea typeface="Aharoni"/>
              </a:rPr>
              <a:t>Aber nun kommt es erst so richtig dicke </a:t>
            </a:r>
            <a:r>
              <a:rPr b="0" lang="de-DE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01320" y="5791320"/>
            <a:ext cx="60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cc"/>
                </a:solidFill>
                <a:latin typeface="Arial"/>
                <a:ea typeface="Arial"/>
              </a:rPr>
              <a:t>Q: What is the centre verse in the Bi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6479280" y="579132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A: Psalm 118: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Ap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228600" y="228600"/>
            <a:ext cx="8839080" cy="56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  <a:ea typeface="Arial"/>
              </a:rPr>
              <a:t>Does this verse say something signific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  <a:ea typeface="Arial"/>
              </a:rPr>
              <a:t>about God's perfect will for our liv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800000"/>
                </a:solidFill>
                <a:latin typeface="Arial"/>
                <a:ea typeface="Arial"/>
              </a:rPr>
              <a:t>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Es geht nicht um DEINEN eigenen oder gar FRE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Willen - nein – es geht um “Gottes perfekten Willen”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FÜR DEIN Leben, für unser Leben – wird hier gesag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Du wirst also fremd bestimmt und was du tun und lassen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sollst, steht in der Bibel – die von sehr geschickten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Manipulatoren geschrieben wurde und natürlich nicht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von einem LORD oder GOTT selbst – also sollst du,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wie weiter unten steht – Gottes perfekten Willen such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statt deinen eigenen!!!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1674000" y="5222880"/>
            <a:ext cx="599652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Arial"/>
                <a:ea typeface="Arial"/>
              </a:rPr>
              <a:t>The next time someone says they would like to fi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800000"/>
                </a:solidFill>
                <a:latin typeface="Arial"/>
                <a:ea typeface="Arial"/>
              </a:rPr>
              <a:t>God's perfect will for their lives and that they want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800000"/>
                </a:solidFill>
                <a:latin typeface="Arial"/>
                <a:ea typeface="Arial"/>
              </a:rPr>
              <a:t>be in the centre of His will, just send them to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Arial"/>
                <a:ea typeface="Arial"/>
              </a:rPr>
              <a:t>centre of His Wor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Ap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76320" y="76320"/>
            <a:ext cx="8991360" cy="68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salms 118:8 (NKJV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"It is better to trust in the LORD than to put confidence in man.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Man möge also dem LORD (Herren) vertrauen, nicht aber den Mitmenschen, den Freunden, der Familie – NEIN </a:t>
            </a:r>
            <a:r>
              <a:rPr b="1" lang="en-GB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br>
              <a:rPr sz="1900"/>
            </a:br>
            <a:r>
              <a:rPr b="1" lang="en-GB" sz="1900" spc="-1" strike="noStrike">
                <a:solidFill>
                  <a:srgbClr val="60c99c"/>
                </a:solidFill>
                <a:latin typeface="Arial Rounded MT Bold"/>
                <a:ea typeface="Arial"/>
              </a:rPr>
              <a:t> Welch eine wahnsinnige, zerstörerische, destruktive Manipulation </a:t>
            </a:r>
            <a:r>
              <a:rPr b="1" lang="en-GB" sz="1900" spc="-1" strike="noStrike">
                <a:solidFill>
                  <a:srgbClr val="60c99c"/>
                </a:solidFill>
                <a:latin typeface="Wingdings"/>
                <a:ea typeface="Wingdings"/>
              </a:rPr>
              <a:t></a:t>
            </a:r>
            <a:r>
              <a:rPr b="1" lang="en-GB" sz="1900" spc="-1" strike="noStrike">
                <a:solidFill>
                  <a:srgbClr val="60c99c"/>
                </a:solidFill>
                <a:latin typeface="Arial Rounded MT Bold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Mit anderen Worten: Man möge also all seine Zuversicht dem </a:t>
            </a:r>
            <a:br>
              <a:rPr sz="1900"/>
            </a:br>
            <a:r>
              <a:rPr b="1" lang="en-GB" sz="19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unsichtbaren LORD geben, dem Allernächsten aber gar nichts zutraue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*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Ich habe jedenfalls kein Gebet FÜR dich gebetet, bevor ich dies aussandte,</a:t>
            </a:r>
            <a:br>
              <a:rPr sz="1900"/>
            </a:br>
            <a:r>
              <a:rPr b="1" lang="en-GB" sz="19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da ich dich ja auch nicht gefragt hatte, ob du das überhaupt willst!!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Und das Göttliche in mir bekommt nicht nur 60 Sekunden, sonder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Jeden Augenblick meines Lebens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295280" y="1066680"/>
            <a:ext cx="6419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ow isn't that odd how this worked out… or was God in the centre of 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Before sending this, I said a prayer for yo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Have you got a minute — 60 seconds for Go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All you do is simply say a small prayer for the person who sent you this to yo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Ap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152280" y="3730680"/>
            <a:ext cx="883944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Arial"/>
                <a:ea typeface="Arial"/>
              </a:rPr>
              <a:t>"Father God, bless my friend in whate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Arial"/>
                <a:ea typeface="Arial"/>
              </a:rPr>
              <a:t>it is that you kn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Arial"/>
                <a:ea typeface="Arial"/>
              </a:rPr>
              <a:t>he or she may be needing this day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Arial"/>
                <a:ea typeface="Arial"/>
              </a:rPr>
              <a:t>May their life be full of your peac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Arial"/>
                <a:ea typeface="Arial"/>
              </a:rPr>
              <a:t>prosperity, and power as they seek to have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Arial"/>
                <a:ea typeface="Arial"/>
              </a:rPr>
              <a:t>closer relationship with Yo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ffff99"/>
                </a:solidFill>
                <a:latin typeface="Arial"/>
                <a:ea typeface="Arial"/>
              </a:rPr>
              <a:t>Amen.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feld 5"/>
          <p:cNvSpPr/>
          <p:nvPr/>
        </p:nvSpPr>
        <p:spPr>
          <a:xfrm>
            <a:off x="380880" y="533520"/>
            <a:ext cx="838224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 Rounded MT Bold"/>
              </a:rPr>
              <a:t>Was ist eigentlich mit Mutter Gott, kommt die auch mal vor? Wieso ist Gott immer nur ein Vater????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 Rounded MT Bold"/>
              </a:rPr>
              <a:t>Verstehst du das – ich jedenfalls nic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 Rounded MT Bold"/>
              </a:rPr>
              <a:t>Liebe Leute – hier steht auch klar, dass es nicht um UNSEREN Frieden geht, sondern um Gottes-Frieden – aha </a:t>
            </a:r>
            <a:r>
              <a:rPr b="0" lang="de-D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de-DE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 Rounded MT Bold"/>
              </a:rPr>
              <a:t>Wozu braucht der das – hm – er kann sich doch alles in nur einem einzigen Augenblick selber schaffen – od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 Rounded MT Bold"/>
              </a:rPr>
              <a:t>Oder ist der Vater Gott gar so armselig wie die Menschheit, die nicht weiß, wie sie in Frieden leben kann?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APICTT1946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380880" y="304920"/>
            <a:ext cx="84582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Then send it on to 10 other peop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Within hours, 10 people have pray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for you, and you caused many peo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pray to God for other peop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Then sit back an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watch the power of 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at work in your lif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for doing the thing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you know He lo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Hier wirst du nun aufgefordert, diese Manipulation an 10 Leute in den nächsten 10 Stunden zu senden, auf diese Weise wirst 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Zum Mittäter im Namen des Herren – sei dir dessen bewusst – al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Lass es und nimm diese Worte als Anstoss zur Bewusstwerdung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wie durch Religionen manipuliert und indoktriniert wird !!!!!!!!!!!!!!!!!!!!!!!!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2T08:45:26Z</dcterms:created>
  <dc:creator>Hector Velsket</dc:creator>
  <dc:description/>
  <dc:language>en-US</dc:language>
  <cp:lastModifiedBy>MeinPC</cp:lastModifiedBy>
  <dcterms:modified xsi:type="dcterms:W3CDTF">2017-04-21T04:11:04Z</dcterms:modified>
  <cp:revision>38</cp:revision>
  <dc:subject/>
  <dc:title>Wallpapers</dc:title>
</cp:coreProperties>
</file>