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E02-75A2-48D4-BC04-483E9E39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E59-DECC-449E-8E1B-9BA3DAC6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8BE-ABBB-4975-A498-0C7C6966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EB7-9C31-4F71-A2B7-7C0DCA25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D51-42D0-4B01-8492-6F7FCD23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412-F08E-491E-9EFA-A1EAD0FB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81C-F7F6-4644-9B89-ADF83EA5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BFA-55BD-47D5-85F3-D4FEEBBE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BF6-546D-4F60-A381-4D17D15D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6EF-2109-4999-8FC2-DF8D6BE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121-6894-4769-A0FC-7D4C0B8B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CB3-1488-4B60-A9BD-83747E29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2A8F-DAC9-472B-B417-1CA8F4B65DA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2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2438640" cy="328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2637000"/>
            <a:ext cx="25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hauptung, wer den Islam beleidig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2276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476280"/>
            <a:ext cx="741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se Fotos wurden während einer Demonstration in London aufgenom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 wagte es nicht, sie in den Zeitungen zu veröffentli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90792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"EUROPA ist das Krebsgeschwü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e Antwort ist der ISLA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7640" y="3573360"/>
            <a:ext cx="3619800" cy="2390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35640" y="4076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Zerstören, wer den Islam verleumd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046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357336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2323800" cy="325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134136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r Islam soll die Welt beherrs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3619440" cy="2523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516720" y="47671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Zur Hölle mit der Freihei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765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132000" y="255600"/>
            <a:ext cx="3048120" cy="2886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1268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uropa: lerne vom 11. Septe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00360" y="3573360"/>
            <a:ext cx="3905280" cy="260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620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3556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2720" y="3933720"/>
            <a:ext cx="2087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uropa wird bezah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uer 9/11 ist schon auf dem W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360" y="115920"/>
            <a:ext cx="213372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134136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ereitet euch auf den echten Holocaust v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43280" y="4005360"/>
            <a:ext cx="3619440" cy="2238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1840" y="8874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Übersetzu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2438280" cy="3286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11280" y="1197000"/>
            <a:ext cx="3619800" cy="239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908000" y="4334040"/>
            <a:ext cx="3619800" cy="252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524560" y="3573360"/>
            <a:ext cx="3619440" cy="2238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189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 kann wohl etwas gegen so „friedliebende“ Menschen haben? Würden sie uns auch in ihren Ländern solche Manifeste auf die Straße tragen lass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65200" y="333360"/>
            <a:ext cx="155880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035840" y="333360"/>
            <a:ext cx="142380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9640" y="3220920"/>
            <a:ext cx="1511280" cy="1432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372360" y="3284640"/>
            <a:ext cx="2133360" cy="1420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843280" y="333360"/>
            <a:ext cx="361944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5586480"/>
            <a:ext cx="842472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Wir verschließen unsere Augen, aber inzwischen haben wir schon dieses trojanische Pferd bei un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419640" y="3284640"/>
            <a:ext cx="2593800" cy="1952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419640" y="3009960"/>
            <a:ext cx="25923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Das Mittelalter hat uns eingehol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692280"/>
            <a:ext cx="770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Noch ein paar Generationen und sie haben ihr Ziel erre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Was sie mit dem Westen vorhaben, scheint deutlich zu s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 Black"/>
              </a:rPr>
              <a:t>…</a:t>
            </a:r>
            <a:r>
              <a:rPr b="0" lang="de-DE" sz="3200" spc="-1" strike="noStrike">
                <a:solidFill>
                  <a:srgbClr val="ff0000"/>
                </a:solidFill>
                <a:latin typeface="Arial Black"/>
              </a:rPr>
              <a:t>und unsere Politik steckt den Kopf in den S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Aus dem Holländischen übersetz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30:58Z</dcterms:created>
  <dc:creator>luc.1mrm</dc:creator>
  <dc:description/>
  <dc:language>en-US</dc:language>
  <cp:lastModifiedBy>Buddy Holly</cp:lastModifiedBy>
  <dcterms:modified xsi:type="dcterms:W3CDTF">2011-02-06T00:51:36Z</dcterms:modified>
  <cp:revision>7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03000000000001024140</vt:lpwstr>
  </property>
</Properties>
</file>