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8F1E-538A-45D0-B2EB-29CA4BD0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1D4-D38C-4018-BEE7-D54370BC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48E-7E7D-4FDD-9DE8-68134BB1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C55-3CE4-4477-885D-A01EA61C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F19-E343-40F0-9492-17B34EF9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88A-A305-4122-8A12-D832CCE8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5BF-B907-4921-B1B3-73501204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866-F90A-4A0C-860A-511B00F2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E31-9B20-47E6-BA71-8318D56F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6FA-1076-47A4-A881-D30D79DB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92C-D8DB-4DA1-B7D4-B8B8EA5C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7BB-22D5-4EDE-B181-0950D6FA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4456-1293-4CC0-9A4A-F5C3D4522D0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2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32000" y="2060640"/>
            <a:ext cx="2438640" cy="3286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67280" y="2637000"/>
            <a:ext cx="25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thauptung, wer den Islam beleidi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227664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476280"/>
            <a:ext cx="741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se Fotos wurden während einer Demonstration in London aufgenom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 wagte es nicht, sie in den Zeitungen zu veröffentli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3619440" cy="240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9640" y="907920"/>
            <a:ext cx="38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"EUROPA ist das Krebsgeschwü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e Antwort ist der ISLA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47640" y="3573360"/>
            <a:ext cx="3619800" cy="2390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35640" y="407664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Zerstören, wer den Islam verleumd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40464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357336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2323800" cy="3257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134136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r Islam soll die Welt beherrs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3619440" cy="2523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516720" y="47671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Zur Hölle mit der Freihei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765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32000" y="255600"/>
            <a:ext cx="3048120" cy="2886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1268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uropa: lerne vom 11. Sept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00360" y="3573360"/>
            <a:ext cx="3905280" cy="260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620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3556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2720" y="3933720"/>
            <a:ext cx="2087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uropa wird bezahl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uer 9/11 ist schon auf dem W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360" y="115920"/>
            <a:ext cx="2133720" cy="327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4360" y="134136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ereitet euch auf den echten Holocaust 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43280" y="4005360"/>
            <a:ext cx="3619440" cy="2238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1840" y="88740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2438280" cy="3286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411280" y="1197000"/>
            <a:ext cx="3619800" cy="2390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908000" y="4334040"/>
            <a:ext cx="3619800" cy="252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524560" y="3573360"/>
            <a:ext cx="3619440" cy="2238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189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r kann wohl etwas gegen so „friedliebende“ Menschen haben? Würden sie uns auch in ihren Ländern solche Manifeste auf die Straße tragen lass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65200" y="333360"/>
            <a:ext cx="1558800" cy="21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035840" y="333360"/>
            <a:ext cx="142380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39640" y="3220920"/>
            <a:ext cx="1511280" cy="1432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372360" y="3284640"/>
            <a:ext cx="2133360" cy="1420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2843280" y="333360"/>
            <a:ext cx="3619440" cy="2409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5586480"/>
            <a:ext cx="842472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Wir verschließen unsere Augen, aber inzwischen haben wir schon dieses trojanische Pferd bei un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3419640" y="3284640"/>
            <a:ext cx="2593800" cy="1952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419640" y="3009960"/>
            <a:ext cx="25923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as Mittelalter hat uns eingehol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5640" y="692280"/>
            <a:ext cx="770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Noch ein paar Generationen und sie haben ihr Ziel erre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Was sie mit dem Westen vorhaben, scheint deutlich zu s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 Black"/>
              </a:rPr>
              <a:t>…</a:t>
            </a:r>
            <a:r>
              <a:rPr b="0" lang="de-DE" sz="3200" spc="-1" strike="noStrike">
                <a:solidFill>
                  <a:srgbClr val="ff0000"/>
                </a:solidFill>
                <a:latin typeface="Arial Black"/>
              </a:rPr>
              <a:t>und unsere Politik steckt den Kopf in den S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Aus dem Holländischen übersetz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8:30:58Z</dcterms:created>
  <dc:creator>luc.1mrm</dc:creator>
  <dc:description/>
  <dc:language>en-US</dc:language>
  <cp:lastModifiedBy>Buddy Holly</cp:lastModifiedBy>
  <dcterms:modified xsi:type="dcterms:W3CDTF">2011-02-06T00:51:36Z</dcterms:modified>
  <cp:revision>7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a03000000000001024140</vt:lpwstr>
  </property>
</Properties>
</file>