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3E7-6730-425E-9A15-3AED3BD8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61F-6328-4F70-A2C5-6D25C2E7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8BA-63EB-416E-B1D5-2116A2B8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D4E-02CE-4356-8D0F-47DBEDA9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3D9-BB78-4592-A9D1-B77E59CB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8DC-2AC2-4ECA-9ED7-06FE3606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F72-25B1-47AD-B35A-0C0AFF35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9AB-45D8-468C-B845-4C20D68C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6E6-568D-481B-B47E-E615FD36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60E-14E5-4008-9C86-4B5874DC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E61-A4E9-4040-90F8-89D213B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E49-216D-4FF1-850E-1FFE0D07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ADC4-1454-4D8F-9854-DFF1E1C44E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2438640" cy="32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263700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hauptung, wer den Islam beleidi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2276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76280"/>
            <a:ext cx="741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se Fotos wurden während einer Demonstration in London aufgenom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 wagte es nicht, sie in den Zeitungen zu veröffentli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90792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"EUROPA ist das Krebsgeschwü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e Antwort ist der ISLA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3573360"/>
            <a:ext cx="3619800" cy="2390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35640" y="4076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Zerstören, wer den Islam verleumd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046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35733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2323800" cy="325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3413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r Islam soll die Welt beherr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619440" cy="2523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516720" y="47671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ur Hölle mit der Freihei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765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32000" y="255600"/>
            <a:ext cx="3048120" cy="2886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1268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ropa: lerne vom 11. Sept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00360" y="3573360"/>
            <a:ext cx="3905280" cy="260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620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556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2720" y="3933720"/>
            <a:ext cx="208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ropa wird bezah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er 9/11 ist schon auf dem W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360" y="115920"/>
            <a:ext cx="213372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134136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ereitet euch auf den echten Holocaust 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43280" y="4005360"/>
            <a:ext cx="3619440" cy="2238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1840" y="8874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438280" cy="328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3619800" cy="23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08000" y="4334040"/>
            <a:ext cx="3619800" cy="252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524560" y="3573360"/>
            <a:ext cx="3619440" cy="2238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18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 kann wohl etwas gegen so „friedliebende“ Menschen haben? Würden sie uns auch in ihren Ländern solche Manifeste auf die Straße tragen lass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65200" y="333360"/>
            <a:ext cx="155880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35840" y="333360"/>
            <a:ext cx="142380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9640" y="322092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2133360" cy="1420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5586480"/>
            <a:ext cx="842472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Wir verschließen unsere Augen, aber inzwischen haben wir schon dieses trojanische Pferd bei un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419640" y="3284640"/>
            <a:ext cx="2593800" cy="1952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19640" y="3009960"/>
            <a:ext cx="2592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s Mittelalter hat uns eingehol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692280"/>
            <a:ext cx="770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ch ein paar Generationen und sie haben ihr Ziel erre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Was sie mit dem Westen vorhaben, scheint deutlich zu s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 Black"/>
              </a:rPr>
              <a:t>…</a:t>
            </a:r>
            <a:r>
              <a:rPr b="0" lang="de-DE" sz="3200" spc="-1" strike="noStrike">
                <a:solidFill>
                  <a:srgbClr val="ff0000"/>
                </a:solidFill>
                <a:latin typeface="Arial Black"/>
              </a:rPr>
              <a:t>und unsere Politik steckt den Kopf in den S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Aus dem Holländischen übersetz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30:58Z</dcterms:created>
  <dc:creator>luc.1mrm</dc:creator>
  <dc:description/>
  <dc:language>en-US</dc:language>
  <cp:lastModifiedBy>Buddy Holly</cp:lastModifiedBy>
  <dcterms:modified xsi:type="dcterms:W3CDTF">2011-02-06T00:51:36Z</dcterms:modified>
  <cp:revision>7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3000000000001024140</vt:lpwstr>
  </property>
</Properties>
</file>