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14A-3D98-4D0F-89A6-F4A9F993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2BE-9EFC-48D8-BE46-B1B336EA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312-1B4C-4E77-9AE6-BAA32D31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E3E-8BEF-4251-8913-60B62D3E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1DE-EA48-40C5-81FB-29691A09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A3E-887C-4EC4-9E72-16E35D1F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1EE-C948-4E60-A7E5-040CF34F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BB4-0E95-482A-B3A0-D47116D1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095-6829-4B5B-A71B-DD709444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B68-49D2-4B2F-8037-3359AFF9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1228-C043-44AD-B080-B2D56391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02A-0C2F-4FF2-A923-AC711D6C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C697-9EB5-422A-967A-04B4A7BE4F6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971800" y="1066680"/>
            <a:ext cx="37339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Äm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Impact"/>
              </a:rPr>
              <a:t>v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Impact"/>
              </a:rPr>
              <a:t>damals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14600" y="152280"/>
            <a:ext cx="3949560" cy="6553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2224" r="0" b="2224"/>
          <a:stretch/>
        </p:blipFill>
        <p:spPr>
          <a:xfrm>
            <a:off x="2362320" y="228600"/>
            <a:ext cx="4551120" cy="64771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743200" y="228600"/>
            <a:ext cx="3571920" cy="6400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000003" descr=""/>
          <p:cNvPicPr/>
          <p:nvPr/>
        </p:nvPicPr>
        <p:blipFill>
          <a:blip r:embed="rId1"/>
          <a:stretch/>
        </p:blipFill>
        <p:spPr>
          <a:xfrm>
            <a:off x="1066680" y="23760"/>
            <a:ext cx="7010640" cy="6810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000004" descr=""/>
          <p:cNvPicPr/>
          <p:nvPr/>
        </p:nvPicPr>
        <p:blipFill>
          <a:blip r:embed="rId1"/>
          <a:stretch/>
        </p:blipFill>
        <p:spPr>
          <a:xfrm>
            <a:off x="1665360" y="0"/>
            <a:ext cx="58132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000005" descr=""/>
          <p:cNvPicPr/>
          <p:nvPr/>
        </p:nvPicPr>
        <p:blipFill>
          <a:blip r:embed="rId1"/>
          <a:stretch/>
        </p:blipFill>
        <p:spPr>
          <a:xfrm>
            <a:off x="2766960" y="0"/>
            <a:ext cx="36100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000007" descr=""/>
          <p:cNvPicPr/>
          <p:nvPr/>
        </p:nvPicPr>
        <p:blipFill>
          <a:blip r:embed="rId1"/>
          <a:stretch/>
        </p:blipFill>
        <p:spPr>
          <a:xfrm>
            <a:off x="2558880" y="0"/>
            <a:ext cx="40276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000008" descr=""/>
          <p:cNvPicPr/>
          <p:nvPr/>
        </p:nvPicPr>
        <p:blipFill>
          <a:blip r:embed="rId1"/>
          <a:stretch/>
        </p:blipFill>
        <p:spPr>
          <a:xfrm>
            <a:off x="2552760" y="0"/>
            <a:ext cx="40402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3:08:54Z</dcterms:created>
  <dc:creator/>
  <dc:description>www.xtreme-fun.de</dc:description>
  <dc:language>en-US</dc:language>
  <cp:lastModifiedBy>Heribert Kogler</cp:lastModifiedBy>
  <dcterms:modified xsi:type="dcterms:W3CDTF">2005-01-18T14:32:13Z</dcterms:modified>
  <cp:revision>15</cp:revision>
  <dc:subject/>
  <dc:title>Ämter von damals ...</dc:title>
</cp:coreProperties>
</file>