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CEE-CD2C-4207-BC09-FBA84577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B90-FC07-4B82-AD65-7914B88B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FDD-DF8B-4B76-97D1-EC6A78B4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CCB-2B61-42E4-AB38-1A9CC0D7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29C-B8A3-4189-A5C8-3A250108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25B-C98B-4A8C-9722-F87CB031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751-6008-437B-9ED3-D078635C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4CE-752E-4F1B-80AD-FA501E63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BAF-D7A4-4899-B988-418F3B10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C68-8DC4-4827-BD42-BED170F4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874-E39D-4027-9A53-DDA6C8FA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DCA-E772-49DC-8FE5-BFB0B265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E777-6115-4808-BE73-0CAEDE6914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71800" y="1066680"/>
            <a:ext cx="37339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Äm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Impact"/>
              </a:rPr>
              <a:t>v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Impact"/>
              </a:rPr>
              <a:t>damals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14600" y="152280"/>
            <a:ext cx="3949560" cy="6553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2224" r="0" b="2224"/>
          <a:stretch/>
        </p:blipFill>
        <p:spPr>
          <a:xfrm>
            <a:off x="2362320" y="228600"/>
            <a:ext cx="4551120" cy="6477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743200" y="228600"/>
            <a:ext cx="357192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000003" descr=""/>
          <p:cNvPicPr/>
          <p:nvPr/>
        </p:nvPicPr>
        <p:blipFill>
          <a:blip r:embed="rId1"/>
          <a:stretch/>
        </p:blipFill>
        <p:spPr>
          <a:xfrm>
            <a:off x="1066680" y="23760"/>
            <a:ext cx="7010640" cy="6810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000004" descr=""/>
          <p:cNvPicPr/>
          <p:nvPr/>
        </p:nvPicPr>
        <p:blipFill>
          <a:blip r:embed="rId1"/>
          <a:stretch/>
        </p:blipFill>
        <p:spPr>
          <a:xfrm>
            <a:off x="1665360" y="0"/>
            <a:ext cx="58132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000005" descr=""/>
          <p:cNvPicPr/>
          <p:nvPr/>
        </p:nvPicPr>
        <p:blipFill>
          <a:blip r:embed="rId1"/>
          <a:stretch/>
        </p:blipFill>
        <p:spPr>
          <a:xfrm>
            <a:off x="2766960" y="0"/>
            <a:ext cx="36100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000007" descr=""/>
          <p:cNvPicPr/>
          <p:nvPr/>
        </p:nvPicPr>
        <p:blipFill>
          <a:blip r:embed="rId1"/>
          <a:stretch/>
        </p:blipFill>
        <p:spPr>
          <a:xfrm>
            <a:off x="2558880" y="0"/>
            <a:ext cx="40276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000008" descr=""/>
          <p:cNvPicPr/>
          <p:nvPr/>
        </p:nvPicPr>
        <p:blipFill>
          <a:blip r:embed="rId1"/>
          <a:stretch/>
        </p:blipFill>
        <p:spPr>
          <a:xfrm>
            <a:off x="2552760" y="0"/>
            <a:ext cx="40402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3:08:54Z</dcterms:created>
  <dc:creator/>
  <dc:description>www.xtreme-fun.de</dc:description>
  <dc:language>en-US</dc:language>
  <cp:lastModifiedBy>Heribert Kogler</cp:lastModifiedBy>
  <dcterms:modified xsi:type="dcterms:W3CDTF">2005-01-18T14:32:13Z</dcterms:modified>
  <cp:revision>15</cp:revision>
  <dc:subject/>
  <dc:title>Ämter von damals ...</dc:title>
</cp:coreProperties>
</file>