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D4F-6D96-456B-99A1-FA79F53F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123-BF59-4C37-AD14-4154D628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ADF-2034-45F4-B025-10CDC541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A0F-0836-4F06-8CBD-6C5E0E37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89B-0529-4301-AE13-2225348F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21F-5FD5-4C6D-95A3-AF908D7C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8A5-B353-417C-B422-EB86BAD7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D64-FCDB-4647-87FD-3D684D4D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C43-835D-494C-A15D-0B176715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D78-7919-471A-880A-F6F4F86B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9C69-91F6-4F71-B093-FAAF19F6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D28-D5CA-409B-AB65-0CD0B58E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E755-1D01-450B-85E5-3DAA4D09D7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971800" y="1066680"/>
            <a:ext cx="37339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Ämt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Impact"/>
              </a:rPr>
              <a:t>v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Impact"/>
              </a:rPr>
              <a:t>damals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514600" y="152280"/>
            <a:ext cx="3949560" cy="6553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2224" r="0" b="2224"/>
          <a:stretch/>
        </p:blipFill>
        <p:spPr>
          <a:xfrm>
            <a:off x="2362320" y="228600"/>
            <a:ext cx="4551120" cy="64771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743200" y="228600"/>
            <a:ext cx="3571920" cy="6400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000003" descr=""/>
          <p:cNvPicPr/>
          <p:nvPr/>
        </p:nvPicPr>
        <p:blipFill>
          <a:blip r:embed="rId1"/>
          <a:stretch/>
        </p:blipFill>
        <p:spPr>
          <a:xfrm>
            <a:off x="1066680" y="23760"/>
            <a:ext cx="7010640" cy="6810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000004" descr=""/>
          <p:cNvPicPr/>
          <p:nvPr/>
        </p:nvPicPr>
        <p:blipFill>
          <a:blip r:embed="rId1"/>
          <a:stretch/>
        </p:blipFill>
        <p:spPr>
          <a:xfrm>
            <a:off x="1665360" y="0"/>
            <a:ext cx="58132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000005" descr=""/>
          <p:cNvPicPr/>
          <p:nvPr/>
        </p:nvPicPr>
        <p:blipFill>
          <a:blip r:embed="rId1"/>
          <a:stretch/>
        </p:blipFill>
        <p:spPr>
          <a:xfrm>
            <a:off x="2766960" y="0"/>
            <a:ext cx="36100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000007" descr=""/>
          <p:cNvPicPr/>
          <p:nvPr/>
        </p:nvPicPr>
        <p:blipFill>
          <a:blip r:embed="rId1"/>
          <a:stretch/>
        </p:blipFill>
        <p:spPr>
          <a:xfrm>
            <a:off x="2558880" y="0"/>
            <a:ext cx="40276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000008" descr=""/>
          <p:cNvPicPr/>
          <p:nvPr/>
        </p:nvPicPr>
        <p:blipFill>
          <a:blip r:embed="rId1"/>
          <a:stretch/>
        </p:blipFill>
        <p:spPr>
          <a:xfrm>
            <a:off x="2552760" y="0"/>
            <a:ext cx="40402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3:08:54Z</dcterms:created>
  <dc:creator/>
  <dc:description>www.xtreme-fun.de</dc:description>
  <dc:language>en-US</dc:language>
  <cp:lastModifiedBy>Heribert Kogler</cp:lastModifiedBy>
  <dcterms:modified xsi:type="dcterms:W3CDTF">2005-01-18T14:32:13Z</dcterms:modified>
  <cp:revision>15</cp:revision>
  <dc:subject/>
  <dc:title>Ämter von damals ...</dc:title>
</cp:coreProperties>
</file>